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B6D-4B4C-4A43-AABA-15794DF7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11B-11C2-4603-A1B0-8E430BD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003-7149-45A0-9787-60A821A7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E8E-F7CE-48E3-BAB8-D8983F1C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C4AE-B23C-414D-A18C-0EDA9C3F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1C5-28F0-4041-ACC3-9E7FD4DC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CC45-B3BC-4F56-BE98-42AC957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350-5044-4A93-8A9B-AFC66A6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BE7A-6F33-4DF8-9AF6-CD2C363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4FF-41EF-41F4-80F0-1CD3F3C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EE7-967B-41F0-94D2-25AD1F8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087-3FC8-4E98-B51F-DD04EE7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FA81-3851-4596-A635-5691433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C2C0-0072-40BC-9AB8-708AACE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4CD-8C14-46E5-9E66-3A63BE86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444-E296-4350-8197-B1B8854E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A3D5-A4A3-45CD-9891-25EF8964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0CBB-C134-4632-BBF6-EF14CC13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9B42-9735-4728-B528-266BD298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EC3A-4CA0-48B2-85F7-CDAC9A2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3795-12C4-4250-9B75-A98F7595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B882-91B9-47FE-BB56-5BADACC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9C7-D1D0-4335-BB56-B9AAF0C9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3107-0DB9-408D-AF2A-7A7A05C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13E7-91B0-4469-9123-77A1164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858B-5357-465C-A8F6-5219BA1D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8CED-4C37-4B44-95E8-FA11553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46CC-8898-4F74-8DA0-EFBA5D9C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37F0-6B5C-4281-B360-D2BFD36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797C-22EF-47DC-9FEF-EBF739A2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8480-50AF-49BB-A9BE-09C19A3A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7804-C6A9-4D2F-9DC5-C078CD4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D066-7A70-40CC-855D-71D5DC76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807-8EF8-4AA5-AB01-56F4C1A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C3A6-EC70-4D25-BB8C-E1A86238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799F-C9FB-4572-B891-0F4CAB11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6991-E128-4FAC-AE38-D36608CB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41E5-45BD-45C1-8453-BD77211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9A64-C3FB-42DF-9B06-01199A5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B81E-F043-4C1A-B0B0-1756782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B601-0089-4F44-AD03-A89D825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1317-A136-4B1F-B5A5-E2A83A40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1801-CFE8-4694-91C6-75C7F530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277A-3FE5-4F05-B9EF-373F956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879-F275-464B-9E4E-C096F814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5E69-99A6-47C3-8893-98D174EA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31CB-1F2F-4F2F-91D3-187E96D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B38A6-F52F-4E3C-8E14-0493AFC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9C85-39AA-4276-8D41-34EE1BB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4FF44-9894-4021-9DAB-740F6AA2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6288-63C2-4A0B-B8B3-A0BE448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6A58-0DBE-403A-969A-B2822A0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410A-DC6C-4745-8896-72BFA05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4CF5-C030-4466-A34D-7DD0A2BC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B431-6A49-42BE-93A1-5D016357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6DD-E3A6-4032-8B61-D948F3B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B6328-5601-43F5-BB3D-436FBBEF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8546-4DBF-4591-8EA2-9544DB2A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9CBC8-A297-45D0-BFA7-19A182C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61CC-F77C-4706-9D61-4382DD7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CFEA-8562-402C-9084-B2C4F917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7E39-EE99-4D59-B187-85F688F0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EE348-93D0-49A9-AAB5-6965C610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C720-DD27-433C-934A-B9C378B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D327C-29F9-4F55-8378-3D5C7B49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B990-AD3C-49A3-BAEA-295EE63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3EE-CA81-468C-BF29-5BECF17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3BD5F-C759-4322-AD50-D9DF2325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584A2-8484-4F15-99EB-18BAB1E9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3482-ACA9-4172-9CC5-E5E915C1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F318-EAE9-483D-9665-5A6637A8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3027-E0A0-46EA-8F1E-7788199B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19C99-F0C2-4684-929D-A6D57720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479C-D561-4C24-A6AF-9C9E508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1CA3-F739-48F2-B8EE-A6308B7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F0114-E5BA-4D10-A86A-6EA1C07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8E245-19A8-4D75-80C4-848F149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891-502B-4F8B-934E-1C5C6F8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F28A-DD17-4A3E-9247-CFD969C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5139-94EA-4041-A05A-199B0C2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6163-8E27-48C4-97EB-381008B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7760" y="33022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6B40-451E-48AE-9A48-9DB42B04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904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2272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6400" y="3302280"/>
            <a:ext cx="266976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2EF5-595F-419B-9046-1D3E6505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302280"/>
            <a:ext cx="8291520" cy="20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B82-FCB1-4DC2-AED8-4E90BB9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A32-8C8E-49DD-A092-6E30194EE81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C297-33B3-42DE-B756-EC1A2EAF0C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A16-60CF-443F-BD8F-158901833D7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AD4-D692-4751-B445-11953B494E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0D8C-B7C7-46F3-8AD8-E534BC73EEA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183-71BC-46C7-B319-AF118C5D41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26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2019240" y="3052800"/>
            <a:ext cx="5105520" cy="604800"/>
          </a:xfrm>
          <a:prstGeom prst="rect">
            <a:avLst/>
          </a:prstGeom>
          <a:solidFill>
            <a:srgbClr val="63b70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0" y="3201840"/>
            <a:ext cx="2276640" cy="60516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6867360" y="3200400"/>
            <a:ext cx="2276640" cy="604800"/>
          </a:xfrm>
          <a:prstGeom prst="rect">
            <a:avLst/>
          </a:prstGeom>
          <a:solidFill>
            <a:srgbClr val="63b70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任意多边形 9"/>
          <p:cNvSpPr/>
          <p:nvPr/>
        </p:nvSpPr>
        <p:spPr>
          <a:xfrm>
            <a:off x="2019240" y="3054240"/>
            <a:ext cx="257400" cy="75276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任意多边形 10"/>
          <p:cNvSpPr/>
          <p:nvPr/>
        </p:nvSpPr>
        <p:spPr>
          <a:xfrm flipH="1">
            <a:off x="6866640" y="3052800"/>
            <a:ext cx="257400" cy="752400"/>
          </a:xfrm>
          <a:custGeom>
            <a:avLst/>
            <a:gdLst/>
            <a:ahLst/>
            <a:rect l="l" t="t" r="r" b="b"/>
            <a:pathLst>
              <a:path w="257175" h="753667">
                <a:moveTo>
                  <a:pt x="0" y="0"/>
                </a:moveTo>
                <a:lnTo>
                  <a:pt x="257175" y="148480"/>
                </a:lnTo>
                <a:lnTo>
                  <a:pt x="257175" y="753667"/>
                </a:lnTo>
                <a:lnTo>
                  <a:pt x="0" y="605187"/>
                </a:lnTo>
                <a:close/>
              </a:path>
            </a:pathLst>
          </a:cu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6A4-0CB1-47CE-A367-B3F0727335EA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622B-D67C-428B-800B-91CE967725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174" name="圆角矩形 5"/>
          <p:cNvSpPr/>
          <p:nvPr/>
        </p:nvSpPr>
        <p:spPr>
          <a:xfrm>
            <a:off x="2298600" y="3435480"/>
            <a:ext cx="4572000" cy="369720"/>
          </a:xfrm>
          <a:prstGeom prst="roundRect">
            <a:avLst>
              <a:gd name="adj" fmla="val 50000"/>
            </a:avLst>
          </a:prstGeom>
          <a:solidFill>
            <a:srgbClr val="4a890b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212B-9438-4E95-BEF5-3CE4D4716886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D057-ED75-491F-90F0-477EA61A92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217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A152-7F2A-49F2-BD2A-1FBFCF8FCF37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274-8E56-492C-85AE-C375BFBA66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" descr=""/>
          <p:cNvPicPr/>
          <p:nvPr/>
        </p:nvPicPr>
        <p:blipFill>
          <a:blip r:embed="rId2"/>
          <a:srcRect l="0" t="78496" r="0" b="0"/>
          <a:stretch/>
        </p:blipFill>
        <p:spPr>
          <a:xfrm>
            <a:off x="0" y="538308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26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517680" indent="396720" algn="just">
              <a:lnSpc>
                <a:spcPct val="110000"/>
              </a:lnSpc>
              <a:spcBef>
                <a:spcPts val="1800"/>
              </a:spcBef>
              <a:buClr>
                <a:srgbClr val="30303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8DA-CB80-4379-AB29-32344991CC52}" type="datetime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29040" y="6451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3EE-6DD8-499E-B8D4-9D9BF60C6689}" type="slidenum">
              <a:rPr b="0" lang="zh-CN" sz="1800" spc="-1" strike="noStrike">
                <a:solidFill>
                  <a:srgbClr val="5f5f5f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256"/>
            </a:gs>
            <a:gs pos="100000">
              <a:srgbClr val="5276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1380_152449_1"/>
          <p:cNvPicPr/>
          <p:nvPr/>
        </p:nvPicPr>
        <p:blipFill>
          <a:blip r:embed="rId1"/>
          <a:srcRect l="-728" t="38562" r="0" b="38236"/>
          <a:stretch/>
        </p:blipFill>
        <p:spPr>
          <a:xfrm>
            <a:off x="-54000" y="6480"/>
            <a:ext cx="5353200" cy="839520"/>
          </a:xfrm>
          <a:prstGeom prst="rect">
            <a:avLst/>
          </a:prstGeom>
          <a:ln w="0">
            <a:noFill/>
          </a:ln>
        </p:spPr>
      </p:pic>
      <p:sp>
        <p:nvSpPr>
          <p:cNvPr id="303" name="标题 3"/>
          <p:cNvSpPr/>
          <p:nvPr/>
        </p:nvSpPr>
        <p:spPr>
          <a:xfrm>
            <a:off x="6046920" y="1028880"/>
            <a:ext cx="281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编号</a:t>
            </a:r>
            <a:r>
              <a:rPr b="0" lang="en-US" sz="2800" spc="-1" strike="noStrike">
                <a:solidFill>
                  <a:srgbClr val="5f5f5f"/>
                </a:solidFill>
                <a:latin typeface="黑体"/>
                <a:ea typeface="黑体"/>
              </a:rPr>
              <a:t>:2017</a:t>
            </a:r>
            <a:r>
              <a:rPr b="0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省级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4" name="矩形 13" descr=""/>
          <p:cNvPicPr/>
          <p:nvPr/>
        </p:nvPicPr>
        <p:blipFill>
          <a:blip r:embed="rId2"/>
          <a:stretch/>
        </p:blipFill>
        <p:spPr>
          <a:xfrm>
            <a:off x="1149480" y="2571840"/>
            <a:ext cx="7053120" cy="1200240"/>
          </a:xfrm>
          <a:prstGeom prst="rect">
            <a:avLst/>
          </a:prstGeom>
          <a:ln w="0">
            <a:noFill/>
          </a:ln>
        </p:spPr>
      </p:pic>
      <p:pic>
        <p:nvPicPr>
          <p:cNvPr id="305" name="矩形 14" descr=""/>
          <p:cNvPicPr/>
          <p:nvPr/>
        </p:nvPicPr>
        <p:blipFill>
          <a:blip r:embed="rId3"/>
          <a:stretch/>
        </p:blipFill>
        <p:spPr>
          <a:xfrm>
            <a:off x="2660760" y="4317840"/>
            <a:ext cx="4500360" cy="1256040"/>
          </a:xfrm>
          <a:prstGeom prst="rect">
            <a:avLst/>
          </a:prstGeom>
          <a:ln w="0">
            <a:noFill/>
          </a:ln>
        </p:spPr>
      </p:pic>
      <p:sp>
        <p:nvSpPr>
          <p:cNvPr id="306" name="标题 3"/>
          <p:cNvSpPr/>
          <p:nvPr/>
        </p:nvSpPr>
        <p:spPr>
          <a:xfrm>
            <a:off x="2314440" y="1028880"/>
            <a:ext cx="341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黑体"/>
                <a:ea typeface="黑体"/>
              </a:rPr>
              <a:t>项目中期汇报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256"/>
            </a:gs>
            <a:gs pos="100000">
              <a:srgbClr val="5276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43160" y="428400"/>
            <a:ext cx="2857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黑体"/>
              </a:rPr>
              <a:t>我们的团队</a:t>
            </a:r>
            <a:endParaRPr b="1" lang="en-US" sz="36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0920" y="6428880"/>
            <a:ext cx="1000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5496120" cy="3538440"/>
          </a:xfrm>
          <a:prstGeom prst="rect">
            <a:avLst/>
          </a:prstGeom>
          <a:ln w="0">
            <a:noFill/>
          </a:ln>
        </p:spPr>
      </p:pic>
      <p:pic>
        <p:nvPicPr>
          <p:cNvPr id="310" name="内容占位符 5" descr=""/>
          <p:cNvPicPr/>
          <p:nvPr/>
        </p:nvPicPr>
        <p:blipFill>
          <a:blip r:embed="rId2"/>
          <a:stretch/>
        </p:blipFill>
        <p:spPr>
          <a:xfrm>
            <a:off x="4676760" y="3990960"/>
            <a:ext cx="4219560" cy="2217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" descr="C:\Users\Administrator\Desktop\1380_152449_1.jpg1380_152449_1"/>
          <p:cNvPicPr/>
          <p:nvPr/>
        </p:nvPicPr>
        <p:blipFill>
          <a:blip r:embed="rId3"/>
          <a:srcRect l="-3014" t="36566" r="2022" b="34881"/>
          <a:stretch/>
        </p:blipFill>
        <p:spPr>
          <a:xfrm>
            <a:off x="6315120" y="6429240"/>
            <a:ext cx="2817720" cy="4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cd68"/>
            </a:gs>
            <a:gs pos="100000">
              <a:srgbClr val="0b6e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47640" y="189000"/>
            <a:ext cx="2357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黑体"/>
              </a:rPr>
              <a:t>汇报内容</a:t>
            </a:r>
            <a:endParaRPr b="1" lang="en-US" sz="4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0920" y="6428880"/>
            <a:ext cx="1000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4" name="图示 6" descr=""/>
          <p:cNvPicPr/>
          <p:nvPr/>
        </p:nvPicPr>
        <p:blipFill>
          <a:blip r:embed="rId1"/>
          <a:stretch/>
        </p:blipFill>
        <p:spPr>
          <a:xfrm>
            <a:off x="1195560" y="919080"/>
            <a:ext cx="6858000" cy="4870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1422360" y="5859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汇报内容仅供参考，具体按项目实际情况说明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286160" y="36432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请老师和同学们提问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7" name="Picture 2" descr="G:\晓明研究室文件夹\005  素材库\笑脸\miao.jpg"/>
          <p:cNvPicPr/>
          <p:nvPr/>
        </p:nvPicPr>
        <p:blipFill>
          <a:blip r:embed="rId2"/>
          <a:stretch/>
        </p:blipFill>
        <p:spPr>
          <a:xfrm>
            <a:off x="5381640" y="43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" descr="C:\Users\Administrator\Desktop\1380_152449_1.jpg1380_152449_1"/>
          <p:cNvPicPr/>
          <p:nvPr/>
        </p:nvPicPr>
        <p:blipFill>
          <a:blip r:embed="rId3"/>
          <a:srcRect l="-3014" t="36566" r="2022" b="34881"/>
          <a:stretch/>
        </p:blipFill>
        <p:spPr>
          <a:xfrm>
            <a:off x="6315120" y="6496200"/>
            <a:ext cx="262872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9T07:19:44Z</dcterms:created>
  <dc:creator/>
  <dc:description/>
  <dc:language>en-US</dc:language>
  <cp:lastModifiedBy>Administrator</cp:lastModifiedBy>
  <dcterms:modified xsi:type="dcterms:W3CDTF">2017-06-19T07:52:21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