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2B6-B633-4A83-8BDE-CD787783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40E-A251-4676-A2E0-DFE500B3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A7B-6D1E-4CED-BAAD-5043A3F9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D49-3B4B-4DF7-8380-80C2AD81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73FA-7854-4164-9158-8DBA24E7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CBD0-78A8-456F-A288-4AED0550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F7FA-E3C0-4EBF-BA0D-1048518A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D773-8A60-4465-85C6-4720C09B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4D95-194C-40F2-81E9-F0C71D3D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EEBC-6895-4C2A-8C36-A700AA97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8645-E4BD-43A4-9CD1-0CC83665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04A-0D03-4350-8AAA-6E42133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115B-E162-4F21-9203-2E7AF81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319A-56BA-4363-B4C5-3916E966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A20E-1FEB-4394-A041-53498E10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F7B5-751E-4EC3-9608-22C52A35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93BC-3A9F-4C6F-8CB6-C1DD0704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8016-90FD-45CA-A2BF-68440E48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0205-A3F9-473A-A77B-39D802CD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D39B-617F-468D-92FB-9CBF5984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1374-E879-4151-BE61-9E8D02A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E137-02C5-4E0A-B213-92718F90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3F5-4135-4F48-B54B-2FC4188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FC79-6208-4E41-932F-B236B6A6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2E18-16F1-43BA-BCF9-D2B63FF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C4601-FBFA-4CCE-A4B0-CC8C1A2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31D4-0919-4753-A772-01A6ADD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8B47-3BDC-4AA3-94FA-5E7A0154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3857-9218-4781-8C5B-70F7CD41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684D-3070-4CE1-97FE-904099A6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632-8C07-46FA-B001-10CEFD5F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ED1-0A02-4263-987E-FBC02113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919-1226-48B5-9544-4DC4F432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7F0-2AA0-4EC3-B366-0CC30A5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E76-C280-4499-A5DD-C7296B62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9C1-9F81-473D-A8B5-BEA04CF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BDE9-A530-4853-9236-2900703970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3385-760C-4AC6-92AC-ABBBBA93C3A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1277-9131-4FCB-97AC-273C2F5D4BE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F8E-8053-4FE2-84A5-60BEB32F745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BE2-E499-4E94-9542-E7C246475F6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D190-37B2-44E4-ACA3-2244EE0E38B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4" name="矩形 10" descr=""/>
          <p:cNvPicPr/>
          <p:nvPr/>
        </p:nvPicPr>
        <p:blipFill>
          <a:blip r:embed="rId1"/>
          <a:stretch/>
        </p:blipFill>
        <p:spPr>
          <a:xfrm>
            <a:off x="2039760" y="2752560"/>
            <a:ext cx="546444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矩形 13" descr=""/>
          <p:cNvPicPr/>
          <p:nvPr/>
        </p:nvPicPr>
        <p:blipFill>
          <a:blip r:embed="rId2"/>
          <a:stretch/>
        </p:blipFill>
        <p:spPr>
          <a:xfrm>
            <a:off x="2584440" y="4479840"/>
            <a:ext cx="4500720" cy="1255680"/>
          </a:xfrm>
          <a:prstGeom prst="rect">
            <a:avLst/>
          </a:prstGeom>
          <a:ln w="0">
            <a:noFill/>
          </a:ln>
        </p:spPr>
      </p:pic>
      <p:sp>
        <p:nvSpPr>
          <p:cNvPr id="126" name="标题 3"/>
          <p:cNvSpPr/>
          <p:nvPr/>
        </p:nvSpPr>
        <p:spPr>
          <a:xfrm>
            <a:off x="863640" y="762120"/>
            <a:ext cx="816768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目结题汇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编号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91011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" descr="1380_152449_1"/>
          <p:cNvPicPr/>
          <p:nvPr/>
        </p:nvPicPr>
        <p:blipFill>
          <a:blip r:embed="rId3"/>
          <a:srcRect l="-728" t="38562" r="0" b="38236"/>
          <a:stretch/>
        </p:blipFill>
        <p:spPr>
          <a:xfrm>
            <a:off x="139680" y="352440"/>
            <a:ext cx="53532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BC52-20C9-45B0-97D3-FF538F856672}" type="slidenum"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488960" y="1500120"/>
            <a:ext cx="6286680" cy="8340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8"/>
          <p:cNvSpPr/>
          <p:nvPr/>
        </p:nvSpPr>
        <p:spPr>
          <a:xfrm>
            <a:off x="1143000" y="5786280"/>
            <a:ext cx="6840360" cy="45972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a19"/>
                </a:solidFill>
                <a:latin typeface="黑体"/>
                <a:ea typeface="黑体"/>
              </a:rPr>
              <a:t>左起：袁兴中，常晓明</a:t>
            </a:r>
            <a:r>
              <a:rPr b="0" lang="zh-CN" sz="1800" spc="-1" strike="noStrike">
                <a:solidFill>
                  <a:srgbClr val="001a19"/>
                </a:solidFill>
                <a:latin typeface="黑体"/>
                <a:ea typeface="黑体"/>
              </a:rPr>
              <a:t>教授</a:t>
            </a:r>
            <a:r>
              <a:rPr b="0" lang="zh-CN" sz="2400" spc="-1" strike="noStrike">
                <a:solidFill>
                  <a:srgbClr val="001a19"/>
                </a:solidFill>
                <a:latin typeface="黑体"/>
                <a:ea typeface="黑体"/>
              </a:rPr>
              <a:t>，王峥</a:t>
            </a:r>
            <a:r>
              <a:rPr b="0" lang="zh-CN" sz="1800" spc="-1" strike="noStrike">
                <a:solidFill>
                  <a:srgbClr val="001a19"/>
                </a:solidFill>
                <a:latin typeface="黑体"/>
                <a:ea typeface="黑体"/>
              </a:rPr>
              <a:t>讲师</a:t>
            </a:r>
            <a:r>
              <a:rPr b="0" lang="zh-CN" sz="2400" spc="-1" strike="noStrike">
                <a:solidFill>
                  <a:srgbClr val="001a19"/>
                </a:solidFill>
                <a:latin typeface="黑体"/>
                <a:ea typeface="黑体"/>
              </a:rPr>
              <a:t>，孙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圆角矩形 70" descr=""/>
          <p:cNvPicPr/>
          <p:nvPr/>
        </p:nvPicPr>
        <p:blipFill>
          <a:blip r:embed="rId1"/>
          <a:stretch/>
        </p:blipFill>
        <p:spPr>
          <a:xfrm>
            <a:off x="2981160" y="4767120"/>
            <a:ext cx="432468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圆角矩形 68" descr=""/>
          <p:cNvPicPr/>
          <p:nvPr/>
        </p:nvPicPr>
        <p:blipFill>
          <a:blip r:embed="rId2"/>
          <a:stretch/>
        </p:blipFill>
        <p:spPr>
          <a:xfrm>
            <a:off x="3481560" y="3909960"/>
            <a:ext cx="432432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圆角矩形 64" descr=""/>
          <p:cNvPicPr/>
          <p:nvPr/>
        </p:nvPicPr>
        <p:blipFill>
          <a:blip r:embed="rId3"/>
          <a:stretch/>
        </p:blipFill>
        <p:spPr>
          <a:xfrm>
            <a:off x="3624120" y="2981160"/>
            <a:ext cx="432432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圆角矩形 62" descr=""/>
          <p:cNvPicPr/>
          <p:nvPr/>
        </p:nvPicPr>
        <p:blipFill>
          <a:blip r:embed="rId4"/>
          <a:stretch/>
        </p:blipFill>
        <p:spPr>
          <a:xfrm>
            <a:off x="3481560" y="2124000"/>
            <a:ext cx="4324320" cy="609840"/>
          </a:xfrm>
          <a:prstGeom prst="rect">
            <a:avLst/>
          </a:prstGeom>
          <a:ln w="0">
            <a:noFill/>
          </a:ln>
        </p:spPr>
      </p:pic>
      <p:pic>
        <p:nvPicPr>
          <p:cNvPr id="135" name="圆角矩形 60" descr=""/>
          <p:cNvPicPr/>
          <p:nvPr/>
        </p:nvPicPr>
        <p:blipFill>
          <a:blip r:embed="rId5"/>
          <a:stretch/>
        </p:blipFill>
        <p:spPr>
          <a:xfrm>
            <a:off x="2981160" y="1266840"/>
            <a:ext cx="4324680" cy="609480"/>
          </a:xfrm>
          <a:prstGeom prst="rect">
            <a:avLst/>
          </a:prstGeom>
          <a:ln w="0">
            <a:noFill/>
          </a:ln>
        </p:spPr>
      </p:pic>
      <p:sp>
        <p:nvSpPr>
          <p:cNvPr id="136" name="灯片编号占位符 5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6CD1-AF23-4467-8F3D-8E8E006B5C01}" type="slidenum"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-1143360" y="1000080"/>
            <a:ext cx="4910040" cy="4824360"/>
            <a:chOff x="-1143360" y="1000080"/>
            <a:chExt cx="4910040" cy="4824360"/>
          </a:xfrm>
        </p:grpSpPr>
        <p:pic>
          <p:nvPicPr>
            <p:cNvPr id="138" name="AutoShape 4" descr=""/>
            <p:cNvPicPr/>
            <p:nvPr/>
          </p:nvPicPr>
          <p:blipFill>
            <a:blip r:embed="rId6"/>
            <a:stretch/>
          </p:blipFill>
          <p:spPr>
            <a:xfrm>
              <a:off x="1036800" y="1000080"/>
              <a:ext cx="257688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5"/>
            <p:cNvSpPr/>
            <p:nvPr/>
          </p:nvSpPr>
          <p:spPr>
            <a:xfrm flipH="1" rot="5400000">
              <a:off x="-1005480" y="1269360"/>
              <a:ext cx="4032360" cy="430884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10744" y="10800"/>
                  </a:moveTo>
                  <a:cubicBezTo>
                    <a:pt x="10744" y="10769"/>
                    <a:pt x="10769" y="10744"/>
                    <a:pt x="10800" y="10744"/>
                  </a:cubicBezTo>
                  <a:cubicBezTo>
                    <a:pt x="10830" y="10743"/>
                    <a:pt x="10855" y="10769"/>
                    <a:pt x="1085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e7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8"/>
            <p:cNvGrpSpPr/>
            <p:nvPr/>
          </p:nvGrpSpPr>
          <p:grpSpPr>
            <a:xfrm>
              <a:off x="2596680" y="1461960"/>
              <a:ext cx="417960" cy="381240"/>
              <a:chOff x="2596680" y="1461960"/>
              <a:chExt cx="417960" cy="381240"/>
            </a:xfrm>
          </p:grpSpPr>
          <p:sp>
            <p:nvSpPr>
              <p:cNvPr id="141" name="Oval 9"/>
              <p:cNvSpPr/>
              <p:nvPr/>
            </p:nvSpPr>
            <p:spPr>
              <a:xfrm>
                <a:off x="2596680" y="1461960"/>
                <a:ext cx="417960" cy="381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0"/>
              <p:cNvSpPr/>
              <p:nvPr/>
            </p:nvSpPr>
            <p:spPr>
              <a:xfrm>
                <a:off x="2620440" y="1483200"/>
                <a:ext cx="370080" cy="3376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1"/>
              <p:cNvSpPr/>
              <p:nvPr/>
            </p:nvSpPr>
            <p:spPr>
              <a:xfrm>
                <a:off x="2641680" y="1503000"/>
                <a:ext cx="327240" cy="29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563c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2"/>
              <p:cNvSpPr/>
              <p:nvPr/>
            </p:nvSpPr>
            <p:spPr>
              <a:xfrm>
                <a:off x="2642040" y="1503360"/>
                <a:ext cx="326520" cy="298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3"/>
              <p:cNvSpPr/>
              <p:nvPr/>
            </p:nvSpPr>
            <p:spPr>
              <a:xfrm>
                <a:off x="2662920" y="1522440"/>
                <a:ext cx="284040" cy="260640"/>
              </a:xfrm>
              <a:prstGeom prst="ellipse">
                <a:avLst/>
              </a:prstGeom>
              <a:gradFill rotWithShape="0">
                <a:gsLst>
                  <a:gs pos="0">
                    <a:srgbClr val="033668"/>
                  </a:gs>
                  <a:gs pos="50000">
                    <a:srgbClr val="0563c1"/>
                  </a:gs>
                  <a:gs pos="100000">
                    <a:srgbClr val="0336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" name="Oval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2663640" y="1515960"/>
                <a:ext cx="283680" cy="274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7"/>
            <p:cNvGrpSpPr/>
            <p:nvPr/>
          </p:nvGrpSpPr>
          <p:grpSpPr>
            <a:xfrm>
              <a:off x="3181680" y="2249280"/>
              <a:ext cx="417600" cy="381240"/>
              <a:chOff x="3181680" y="2249280"/>
              <a:chExt cx="417600" cy="381240"/>
            </a:xfrm>
          </p:grpSpPr>
          <p:sp>
            <p:nvSpPr>
              <p:cNvPr id="148" name="Oval 18"/>
              <p:cNvSpPr/>
              <p:nvPr/>
            </p:nvSpPr>
            <p:spPr>
              <a:xfrm>
                <a:off x="3181680" y="2249280"/>
                <a:ext cx="417600" cy="381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9"/>
              <p:cNvSpPr/>
              <p:nvPr/>
            </p:nvSpPr>
            <p:spPr>
              <a:xfrm>
                <a:off x="3205440" y="2270520"/>
                <a:ext cx="369720" cy="3376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20"/>
              <p:cNvSpPr/>
              <p:nvPr/>
            </p:nvSpPr>
            <p:spPr>
              <a:xfrm>
                <a:off x="3226680" y="2290320"/>
                <a:ext cx="327240" cy="29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563c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21"/>
              <p:cNvSpPr/>
              <p:nvPr/>
            </p:nvSpPr>
            <p:spPr>
              <a:xfrm>
                <a:off x="3227040" y="2290680"/>
                <a:ext cx="326520" cy="298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48be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2"/>
              <p:cNvSpPr/>
              <p:nvPr/>
            </p:nvSpPr>
            <p:spPr>
              <a:xfrm>
                <a:off x="3247920" y="2309760"/>
                <a:ext cx="283680" cy="260640"/>
              </a:xfrm>
              <a:prstGeom prst="ellipse">
                <a:avLst/>
              </a:prstGeom>
              <a:gradFill rotWithShape="0">
                <a:gsLst>
                  <a:gs pos="0">
                    <a:srgbClr val="033668"/>
                  </a:gs>
                  <a:gs pos="50000">
                    <a:srgbClr val="0563c1"/>
                  </a:gs>
                  <a:gs pos="100000">
                    <a:srgbClr val="0336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Oval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8640" y="2303280"/>
                <a:ext cx="283320" cy="274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Group 26"/>
            <p:cNvGrpSpPr/>
            <p:nvPr/>
          </p:nvGrpSpPr>
          <p:grpSpPr>
            <a:xfrm>
              <a:off x="3348720" y="3087720"/>
              <a:ext cx="417960" cy="380880"/>
              <a:chOff x="3348720" y="3087720"/>
              <a:chExt cx="417960" cy="380880"/>
            </a:xfrm>
          </p:grpSpPr>
          <p:sp>
            <p:nvSpPr>
              <p:cNvPr id="155" name="Oval 27"/>
              <p:cNvSpPr/>
              <p:nvPr/>
            </p:nvSpPr>
            <p:spPr>
              <a:xfrm>
                <a:off x="3348720" y="3087720"/>
                <a:ext cx="417960" cy="380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28"/>
              <p:cNvSpPr/>
              <p:nvPr/>
            </p:nvSpPr>
            <p:spPr>
              <a:xfrm>
                <a:off x="3372480" y="3108960"/>
                <a:ext cx="370080" cy="337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29"/>
              <p:cNvSpPr/>
              <p:nvPr/>
            </p:nvSpPr>
            <p:spPr>
              <a:xfrm>
                <a:off x="3393720" y="3128760"/>
                <a:ext cx="32724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563c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0"/>
              <p:cNvSpPr/>
              <p:nvPr/>
            </p:nvSpPr>
            <p:spPr>
              <a:xfrm>
                <a:off x="3394080" y="3129120"/>
                <a:ext cx="326520" cy="29808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3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31"/>
              <p:cNvSpPr/>
              <p:nvPr/>
            </p:nvSpPr>
            <p:spPr>
              <a:xfrm>
                <a:off x="3414960" y="3147840"/>
                <a:ext cx="284040" cy="260280"/>
              </a:xfrm>
              <a:prstGeom prst="ellipse">
                <a:avLst/>
              </a:prstGeom>
              <a:gradFill rotWithShape="0">
                <a:gsLst>
                  <a:gs pos="0">
                    <a:srgbClr val="033668"/>
                  </a:gs>
                  <a:gs pos="50000">
                    <a:srgbClr val="0563c1"/>
                  </a:gs>
                  <a:gs pos="100000">
                    <a:srgbClr val="0336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Oval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3415680" y="3141720"/>
                <a:ext cx="283680" cy="27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" name="Group 35"/>
            <p:cNvGrpSpPr/>
            <p:nvPr/>
          </p:nvGrpSpPr>
          <p:grpSpPr>
            <a:xfrm>
              <a:off x="3181680" y="3925800"/>
              <a:ext cx="417600" cy="380880"/>
              <a:chOff x="3181680" y="3925800"/>
              <a:chExt cx="417600" cy="380880"/>
            </a:xfrm>
          </p:grpSpPr>
          <p:sp>
            <p:nvSpPr>
              <p:cNvPr id="162" name="Oval 36"/>
              <p:cNvSpPr/>
              <p:nvPr/>
            </p:nvSpPr>
            <p:spPr>
              <a:xfrm>
                <a:off x="3181680" y="3925800"/>
                <a:ext cx="417600" cy="380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37"/>
              <p:cNvSpPr/>
              <p:nvPr/>
            </p:nvSpPr>
            <p:spPr>
              <a:xfrm>
                <a:off x="3205440" y="3947040"/>
                <a:ext cx="369720" cy="337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38"/>
              <p:cNvSpPr/>
              <p:nvPr/>
            </p:nvSpPr>
            <p:spPr>
              <a:xfrm>
                <a:off x="3226680" y="3966840"/>
                <a:ext cx="32724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563c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9"/>
              <p:cNvSpPr/>
              <p:nvPr/>
            </p:nvSpPr>
            <p:spPr>
              <a:xfrm>
                <a:off x="3227040" y="3967200"/>
                <a:ext cx="326520" cy="298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67e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40"/>
              <p:cNvSpPr/>
              <p:nvPr/>
            </p:nvSpPr>
            <p:spPr>
              <a:xfrm>
                <a:off x="3247920" y="3985920"/>
                <a:ext cx="283680" cy="260280"/>
              </a:xfrm>
              <a:prstGeom prst="ellipse">
                <a:avLst/>
              </a:prstGeom>
              <a:gradFill rotWithShape="0">
                <a:gsLst>
                  <a:gs pos="0">
                    <a:srgbClr val="033668"/>
                  </a:gs>
                  <a:gs pos="50000">
                    <a:srgbClr val="0563c1"/>
                  </a:gs>
                  <a:gs pos="100000">
                    <a:srgbClr val="0336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7" name="Oval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48640" y="3979800"/>
                <a:ext cx="283320" cy="27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Group 44"/>
            <p:cNvGrpSpPr/>
            <p:nvPr/>
          </p:nvGrpSpPr>
          <p:grpSpPr>
            <a:xfrm>
              <a:off x="2680200" y="4700520"/>
              <a:ext cx="389880" cy="380880"/>
              <a:chOff x="2680200" y="4700520"/>
              <a:chExt cx="389880" cy="380880"/>
            </a:xfrm>
          </p:grpSpPr>
          <p:sp>
            <p:nvSpPr>
              <p:cNvPr id="169" name="Oval 45"/>
              <p:cNvSpPr/>
              <p:nvPr/>
            </p:nvSpPr>
            <p:spPr>
              <a:xfrm>
                <a:off x="2680200" y="4700520"/>
                <a:ext cx="389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6"/>
              <p:cNvSpPr/>
              <p:nvPr/>
            </p:nvSpPr>
            <p:spPr>
              <a:xfrm>
                <a:off x="2702160" y="4721760"/>
                <a:ext cx="345240" cy="337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7"/>
              <p:cNvSpPr/>
              <p:nvPr/>
            </p:nvSpPr>
            <p:spPr>
              <a:xfrm>
                <a:off x="2721960" y="4741560"/>
                <a:ext cx="30456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563c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8"/>
              <p:cNvSpPr/>
              <p:nvPr/>
            </p:nvSpPr>
            <p:spPr>
              <a:xfrm>
                <a:off x="2722680" y="4741920"/>
                <a:ext cx="304560" cy="298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e35e2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49"/>
              <p:cNvSpPr/>
              <p:nvPr/>
            </p:nvSpPr>
            <p:spPr>
              <a:xfrm>
                <a:off x="2742840" y="4760640"/>
                <a:ext cx="264600" cy="260280"/>
              </a:xfrm>
              <a:prstGeom prst="ellipse">
                <a:avLst/>
              </a:prstGeom>
              <a:gradFill rotWithShape="0">
                <a:gsLst>
                  <a:gs pos="0">
                    <a:srgbClr val="033668"/>
                  </a:gs>
                  <a:gs pos="50000">
                    <a:srgbClr val="0563c1"/>
                  </a:gs>
                  <a:gs pos="100000">
                    <a:srgbClr val="0336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" name="Oval 5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42480" y="4754520"/>
                <a:ext cx="271440" cy="27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75" name="标题 3" descr=""/>
          <p:cNvPicPr/>
          <p:nvPr/>
        </p:nvPicPr>
        <p:blipFill>
          <a:blip r:embed="rId12"/>
          <a:stretch/>
        </p:blipFill>
        <p:spPr>
          <a:xfrm>
            <a:off x="628560" y="365040"/>
            <a:ext cx="7886880" cy="132552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 61" descr=""/>
          <p:cNvPicPr/>
          <p:nvPr/>
        </p:nvPicPr>
        <p:blipFill>
          <a:blip r:embed="rId13"/>
          <a:stretch/>
        </p:blipFill>
        <p:spPr>
          <a:xfrm>
            <a:off x="3214800" y="1285920"/>
            <a:ext cx="2643120" cy="5223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63" descr=""/>
          <p:cNvPicPr/>
          <p:nvPr/>
        </p:nvPicPr>
        <p:blipFill>
          <a:blip r:embed="rId14"/>
          <a:stretch/>
        </p:blipFill>
        <p:spPr>
          <a:xfrm>
            <a:off x="3714840" y="2143080"/>
            <a:ext cx="3786120" cy="52236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65" descr=""/>
          <p:cNvPicPr/>
          <p:nvPr/>
        </p:nvPicPr>
        <p:blipFill>
          <a:blip r:embed="rId15"/>
          <a:stretch/>
        </p:blipFill>
        <p:spPr>
          <a:xfrm>
            <a:off x="3857760" y="3000240"/>
            <a:ext cx="3786120" cy="52236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69" descr=""/>
          <p:cNvPicPr/>
          <p:nvPr/>
        </p:nvPicPr>
        <p:blipFill>
          <a:blip r:embed="rId16"/>
          <a:stretch/>
        </p:blipFill>
        <p:spPr>
          <a:xfrm>
            <a:off x="3714840" y="3929040"/>
            <a:ext cx="3786120" cy="5223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71" descr=""/>
          <p:cNvPicPr/>
          <p:nvPr/>
        </p:nvPicPr>
        <p:blipFill>
          <a:blip r:embed="rId17"/>
          <a:stretch/>
        </p:blipFill>
        <p:spPr>
          <a:xfrm>
            <a:off x="3214800" y="4786200"/>
            <a:ext cx="3786120" cy="522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4"/>
          <p:cNvSpPr/>
          <p:nvPr/>
        </p:nvSpPr>
        <p:spPr>
          <a:xfrm>
            <a:off x="1422360" y="5859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汇报内容仅供参考，具体按项目实际情况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6FF6-F7A7-4BA9-BBFB-634926A7ED9E}" type="slidenum"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矩形 3" descr=""/>
          <p:cNvPicPr/>
          <p:nvPr/>
        </p:nvPicPr>
        <p:blipFill>
          <a:blip r:embed="rId1"/>
          <a:stretch/>
        </p:blipFill>
        <p:spPr>
          <a:xfrm>
            <a:off x="3868560" y="2451240"/>
            <a:ext cx="2067120" cy="923760"/>
          </a:xfrm>
          <a:prstGeom prst="rect">
            <a:avLst/>
          </a:prstGeom>
          <a:ln w="0">
            <a:noFill/>
          </a:ln>
        </p:spPr>
      </p:pic>
      <p:pic>
        <p:nvPicPr>
          <p:cNvPr id="184" name="矩形 4" descr=""/>
          <p:cNvPicPr/>
          <p:nvPr/>
        </p:nvPicPr>
        <p:blipFill>
          <a:blip r:embed="rId2"/>
          <a:stretch/>
        </p:blipFill>
        <p:spPr>
          <a:xfrm>
            <a:off x="2428920" y="3714840"/>
            <a:ext cx="4714920" cy="52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3T06:49:29Z</dcterms:created>
  <dc:creator/>
  <dc:description/>
  <dc:language>en-US</dc:language>
  <cp:lastModifiedBy>甘道夫人</cp:lastModifiedBy>
  <dcterms:modified xsi:type="dcterms:W3CDTF">2018-11-05T03:46:56Z</dcterms:modified>
  <cp:revision>2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62</vt:lpwstr>
  </property>
  <property fmtid="{D5CDD505-2E9C-101B-9397-08002B2CF9AE}" pid="3" name="KSORubyTemplateID">
    <vt:lpwstr>13</vt:lpwstr>
  </property>
</Properties>
</file>